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A9C-EA8D-4483-BCDF-AFFB65B8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354-2CCF-4D5F-B5DD-DFC144E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3AA-40E3-4D01-A6B1-CECB2C00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C79-236F-45C8-9491-B7F3B289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7755-F880-473E-B539-FAED9CA8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86A8-AE92-4CAD-9FA1-CB17261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FB55-1F47-4FBF-9B12-3898B840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D17-2226-41B8-96B2-E16DC7D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A75-1A9B-45DF-AB95-A8FB01CC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B65-382B-4872-AA74-902613C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072-DAAB-40F5-9D9E-3423DC7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D63-CFDD-4B6F-869E-DCED031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98B3-2822-4E9A-B43F-913EA06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653-A35F-4FF6-B7DF-D4BB3E4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B0C-A9D1-4275-8C88-68BD5E1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DB57-5678-41D9-A8BC-A4CC6484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E4F1-175C-46A4-8A86-2CA47E59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12C-6E5A-4B63-9913-50E8FC6E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674-833E-47A7-A90B-62F0A9F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422-4AFA-41BB-842A-03149FB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02F-DB85-4246-8EB6-BAF76C31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176-F4FF-47FC-A7A9-18BC0D3A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370-130E-4343-BE8A-8A5694D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12D-17D8-4818-894F-632967E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986-4F5B-4569-A1CA-B455EE95C163}" type="datetime"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ED4-E9CC-469B-BC46-852CD72806D0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6BF7-AA85-40CF-9755-6BEAB9E84165}" type="datetime"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1484-0943-4612-AD2B-CC079677D7D0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É ES LA OFICIN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0000" y="1905120"/>
            <a:ext cx="2917800" cy="4190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rvicio público de emple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que pretend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yud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las personas en su proceso de inserción laboral, mediante diferentes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SAS DE OFIC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63520" y="1905120"/>
            <a:ext cx="3471840" cy="41907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enen una duració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añ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consta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etap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, el alumnado recibe formación profesional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órico-práct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Durante este periodo el alumnado recibe un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yu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conóm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 concepto de beca de formación, por importe de 6,01 euros por día lectivo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, los/as alumnos/as-trabajadores/as suscriben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o de trabaj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ara la formación recibiendo un  salario (que nunca puede ser inferior al 75% del salario mínimo interprofesional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OFICINAS EN MÓSTO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óstoles I</a:t>
            </a: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 - C/ Pintor Velázquez, 57-61 - 28935 Móstoles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Tlf. 91 614 59 61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Códigos postales asociados: 28932, 28933, 28934, 28935, 28600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Móstoles II</a:t>
            </a: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 - Pza. Ernesto Peces, s/n - 28931 Móstoles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Tlf. 91 664 15 95 / 91 664 17 27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Códigos postales asociados: 28607, 28609, 28610, 28620, 28630, 28931, 28936, 28937, 28938, 28939, 289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RACIAS POR VUESTRA ATENC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15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976920" cy="27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ién puede apuntarse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Mayores de 16 añ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unitarios/as y no comunitarios/as con permiso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cumentació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ecesaria para inscribirse: D.N.I /N.I.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37200" y="1905120"/>
            <a:ext cx="19954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É OFRECE LA OFICINA DE EMPLEO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14680" y="1905120"/>
            <a:ext cx="2371680" cy="4190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os Profes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ción Lab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lsa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ción: 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uelas Ta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as de Of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468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TARJETA DE DEMAND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l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olicitud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que hace un trabajador/a, desempleado/a o no, con la finalidad de mejorar sus posibilidades de inserción: empleo,  formación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novar periódicamente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en las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echa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esentarse en la Oficina cuando sea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citado/a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ara ell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municar su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locac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y el resultado de la entrevista con la empresa a la que ha sido enviado/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municar las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ificacione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de sus características profesion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48440" y="1905120"/>
            <a:ext cx="35686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870120"/>
            <a:ext cx="7718400" cy="56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DATOS PROFESIONA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ocer la situación de la persona y sus necesidades y aspiraciones profesionales para establecer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inerario de inser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os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dirección, teléfono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ornada de trabajo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ari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esponsabilidades familiares, movilidad geográf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tula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cadémica-profesion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iom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nformática,  hobb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eriencia profesion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es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 Profesiones en las que solicita trabaj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tuación labor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Desempleado/a. Mejora de emple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so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mación ocupac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ione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rientación profes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esoramiento e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toemple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a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cuelas taller, casas de of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búsqueda directa de un puesto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MACIÓN OCUPACION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97160" y="1905120"/>
            <a:ext cx="3006720" cy="4190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iden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 la Comunidad de Madrid - Estar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scrit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a como demandante de empleo en las oficinas de empleo. - Poseer la experiencia y/o titulación especificada para cada curs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en diferent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milias formativa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formática, oficinas, manteni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uració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riable 100-100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rtificado profesional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ítu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ESCUELAS TALLER/CASAS DE OFIC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gramas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leo y form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jóvene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sempleados/as, inscritos/as como demandantes de empleo,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o más años y menores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r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scrito/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omo demandante de empleo disponible para el trabajo en la Oficina de Empleo que le corresponda por su domicilio, y manifestar la voluntad de participar en este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SCUELAS TALL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12960" y="2473200"/>
            <a:ext cx="3976560" cy="3054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enen una duración entr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añ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consta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etap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 el alumnado recibe formación profesional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órico-práct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Durante este periodo el alumnado recibe un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yuda económ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 concepto de beca de formación, por importe de 6,01 euros por día lectivo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ó 18 meses, los/as alumnos/as-trabajadores/as suscriben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o de trabaj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ara la formación recibiendo un salario (que nunca puede ser inferior al 75% del salario mínimo interprofesional)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7:07:20Z</dcterms:created>
  <dc:creator>I.C.M.</dc:creator>
  <dc:description/>
  <dc:language>en-US</dc:language>
  <cp:lastModifiedBy>PROFESOR</cp:lastModifiedBy>
  <cp:lastPrinted>2004-03-29T06:46:33Z</cp:lastPrinted>
  <dcterms:modified xsi:type="dcterms:W3CDTF">2007-04-10T09:07:47Z</dcterms:modified>
  <cp:revision>10</cp:revision>
  <dc:subject/>
  <dc:title>OFICINA DE EMPLEO  MAJADAHONDA</dc:title>
</cp:coreProperties>
</file>